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Ricochet.wav" ContentType="audio/x-wav"/>
  <Override PartName="/ppt/media/Applause.wav" ContentType="audio/x-wav"/>
  <Override PartName="/ppt/media/image12.wmf" ContentType="image/x-wmf"/>
  <Override PartName="/ppt/media/image1.wmf" ContentType="image/x-wmf"/>
  <Override PartName="/ppt/media/image4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13.wmf" ContentType="image/x-wmf"/>
  <Override PartName="/ppt/media/image5.png" ContentType="image/png"/>
  <Override PartName="/ppt/media/Explode.wav" ContentType="audio/x-wav"/>
  <Override PartName="/ppt/media/GunShot.wav" ContentType="audio/x-wav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F074-EB16-4165-8936-EC8D2493E7FD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AB8C-E35E-4E18-8B63-31981470E472}" type="slidenum">
              <a:rPr b="0" lang="cy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C59-8000-4740-A7FA-EB9EDA9A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8F0-A02D-494C-A7EA-3E269DD9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C88-3D82-4BA4-9358-B7EFF67A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D0E-1D6B-4BB2-94EE-95D49701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CDDA-CF8E-41B1-8209-F8D5DFB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4692-A296-4A49-9F36-BDBFC99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3181-F833-4911-85F4-1B3384D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3B14-8CBB-489E-95B3-629441E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349F-5BC8-460B-8B19-69050DAA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9A6-1DE1-4FB2-A224-6431722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45DE-38A5-4CB6-A021-94DEDB4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CAF-9886-4DAD-B2F7-3B249019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A44F-0C1C-40BE-B16B-CB9EA80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768-EA03-4C29-8B2E-8D2C901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D7D-A7CE-4877-991C-7B96C3B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EEB-11DF-48C5-9A3A-0DD7E353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F629-3FB7-4A9D-935A-53863E2F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6DA-3B61-4D2F-A63B-F9EB490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3AA-48E0-4AB7-A32C-6155C80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F90-533E-4098-85C1-9400554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DB9-18D3-4BDB-AEE0-AC2C987C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9DA-61D3-4370-A9A7-C63EFAC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110-EFA3-4CEC-A500-DE9A92EC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119-B8C0-41AB-9A70-0ED9BAA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7190-837F-4363-BEB5-77F76148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6FB-BC6F-48D8-B5B2-8DC0B9C286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audio" Target="../media/Ricochet.wav"/><Relationship Id="rId8" Type="http://schemas.openxmlformats.org/officeDocument/2006/relationships/audio" Target="../media/GunShot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ir prif ddiben busnes mewn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ffffcc"/>
                </a:solidFill>
                <a:latin typeface="Times New Roman"/>
              </a:rPr>
              <a:t>Datganiad cenhadaeth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5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144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m myd busnes fel arfer y prif nodau y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wneud yr elw mwyaf posib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Tyf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gan lawer o fusnesau rai neu bob un o’r nodau canlynol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05740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neud el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nwyddau a gwasanaethau i’r gymuned le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ehangu (gweler y cyflwyniad ppt ar dyf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rthu cymaint ag sy’n bosib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cynny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gwasanae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cystadleuol ia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elusenn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gwirfodd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bod yn ecogyfeillg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 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bod yn ddewis cyntaf o blith cwmnïau hedfan mewn marchnadoedd allwedd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3203640" y="4240080"/>
            <a:ext cx="2881080" cy="192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Amca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modd mesur amcanion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Mae angen i fusnes nodi targedau ymarferol penodol mae angen iddo eu cyrraedd er mwy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cyflawni ei nodau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14400" y="4800600"/>
            <a:ext cx="4419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 </a:t>
            </a:r>
            <a:r>
              <a:rPr b="0" lang="cy-GB" sz="3800" spc="-1" strike="noStrike">
                <a:solidFill>
                  <a:srgbClr val="ffffcc"/>
                </a:solidFill>
                <a:latin typeface="Times New Roman"/>
              </a:rPr>
              <a:t>yw’r enw ar y rhai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iff amcanion eu meintioli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Fel y gellir mesur llwyddiant yn hawdd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E.e. gallai British Airways fod ag amcan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i gynyddu nifer y tocynnau awyr sy’n cael eu gwerthu i deithwyr busnes 5% y flwyddyn yn Ewrop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–</a:t>
            </a:r>
            <a:br>
              <a:rPr sz="4400"/>
            </a:b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y gwahaniaeth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hirdym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odd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heb fod 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tymor by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wrth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MP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6000" spc="-1" strike="noStrike">
                <a:solidFill>
                  <a:srgbClr val="ffcc66"/>
                </a:solidFill>
                <a:latin typeface="Times New Roman"/>
              </a:rPr>
              <a:t>AMCANION CAMPU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yraedd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A               amse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esur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enod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chelgeisi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ynhwy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2962440" y="17748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2"/>
          <a:stretch/>
        </p:blipFill>
        <p:spPr>
          <a:xfrm>
            <a:off x="2962440" y="2468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3"/>
          <a:stretch/>
        </p:blipFill>
        <p:spPr>
          <a:xfrm>
            <a:off x="2959200" y="310680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7" descr=""/>
          <p:cNvPicPr/>
          <p:nvPr/>
        </p:nvPicPr>
        <p:blipFill>
          <a:blip r:embed="rId4"/>
          <a:stretch/>
        </p:blipFill>
        <p:spPr>
          <a:xfrm>
            <a:off x="2959200" y="3746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8" descr=""/>
          <p:cNvPicPr/>
          <p:nvPr/>
        </p:nvPicPr>
        <p:blipFill>
          <a:blip r:embed="rId5"/>
          <a:stretch/>
        </p:blipFill>
        <p:spPr>
          <a:xfrm>
            <a:off x="2959200" y="434016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8" descr=""/>
          <p:cNvPicPr/>
          <p:nvPr/>
        </p:nvPicPr>
        <p:blipFill>
          <a:blip r:embed="rId6"/>
          <a:stretch/>
        </p:blipFill>
        <p:spPr>
          <a:xfrm>
            <a:off x="2959200" y="501336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trwy ddarllen datganiad cenhadaeth gallwch ddweu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fel arfer beth mae bus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yn ei wneud mewn gwirionedd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3733920" y="5084640"/>
            <a:ext cx="175896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Gwerthuso perfformia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Object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53000" cy="370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049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derfynu ar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0574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nu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24280" y="762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ithio tuag at y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2271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irio’r perfformiad yn rheolai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56360" y="30481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000" spc="-1" strike="noStrike">
                <a:solidFill>
                  <a:srgbClr val="ffffcc"/>
                </a:solidFill>
                <a:latin typeface="Times New Roman"/>
              </a:rPr>
              <a:t>Os yw’n anfoddhao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64832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Cymryd camau un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9718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Addasu / adolygu’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522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Newid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62120" y="121932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3581280" y="914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 rot="10878000">
            <a:off x="7238880" y="3504960"/>
            <a:ext cx="1146240" cy="1143000"/>
          </a:xfrm>
          <a:custGeom>
            <a:avLst/>
            <a:gdLst>
              <a:gd name="textAreaLeft" fmla="*/ 659520 w 1146240"/>
              <a:gd name="textAreaRight" fmla="*/ 967320 w 11462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 rot="10878000">
            <a:off x="5028840" y="4876200"/>
            <a:ext cx="1219320" cy="114300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8"/>
          <p:cNvSpPr/>
          <p:nvPr/>
        </p:nvSpPr>
        <p:spPr>
          <a:xfrm rot="5493000">
            <a:off x="6857640" y="106668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1905120" y="525780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895480" y="25146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Sut i wirio nodau ac amcan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Busnes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Object 4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 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crosof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Mae Bill Gates wedi dweud mai cenhadaeth Microsoft yw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cymryd y rhyngrwyd, ei chyfuno â meddalwedd gwych a throi hwnnw i mewn i’r offeryn mwyaf pwerus erio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Dylech allu dweud bod Microsoft yn ymwneud â’r rhyngrwyd, cyfrifiaduron a datblygu meddalwedd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400" spc="-1" strike="noStrike">
                <a:solidFill>
                  <a:srgbClr val="ffffcc"/>
                </a:solidFill>
                <a:latin typeface="Times New Roman"/>
              </a:rPr>
              <a:t>yw bod yr arweinydd diamheuol ym maes teithio’r by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496040" cy="223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..o hyn dylech wybod bod 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British Airways yn gweithred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yn y farchnad deithio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ond </a:t>
            </a:r>
            <a:r>
              <a:rPr b="1" lang="cy-GB" sz="2800" spc="-1" strike="noStrike">
                <a:solidFill>
                  <a:srgbClr val="ffffcc"/>
                </a:solidFill>
                <a:latin typeface="Times New Roman"/>
              </a:rPr>
              <a:t>nid yw’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cy-GB" sz="3200" spc="-1" strike="noStrike">
                <a:solidFill>
                  <a:srgbClr val="ffffcc"/>
                </a:solidFill>
                <a:latin typeface="Times New Roman"/>
              </a:rPr>
              <a:t>glir i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pa fath o deithi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(ar wahân i’r ffaith bod y gair ‘Airways’ yn enw’r cwmni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2"/>
          <a:stretch/>
        </p:blipFill>
        <p:spPr>
          <a:xfrm>
            <a:off x="4037040" y="1828800"/>
            <a:ext cx="192888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8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89584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un peth yw datgan cenhadaeth neu ddib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 u="sng">
                <a:solidFill>
                  <a:srgbClr val="ffffcc"/>
                </a:solidFill>
                <a:uFillTx/>
                <a:latin typeface="Times New Roman"/>
              </a:rPr>
              <a:t>ond</a:t>
            </a: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 peth ar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yw ei gyflawni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Er mwyn cyflawni ei ddiben, rhaid bod gan fusnes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1280" y="3047760"/>
            <a:ext cx="72374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y nodau mae’r busnes eisiau eu cyflawn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camau ymarferol i gyflawni’r nod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- fel arfer wedi’u meintioli (mae modd eu mesu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cp:lastPrinted>2015-05-01T13:06:06Z</cp:lastPrinted>
  <dcterms:modified xsi:type="dcterms:W3CDTF">2015-08-27T12:25:44Z</dcterms:modified>
  <cp:revision>16</cp:revision>
  <dc:subject/>
  <dc:title>The Aims and Objectives of Businesses</dc:title>
</cp:coreProperties>
</file>